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12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2C9-1349-44D8-8C48-2FD024D9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ve students check and correct their answers from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t pictures and words on p.24.  In pairs- Students mus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tudents put pictures next to the correct quantity on handout of quantities.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crease size…copy and Cut up dialog on p.27 and students put in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71A-2668-483A-9EAD-DDFA8F63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B92-B99A-49DE-A774-19B5321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A67-205D-4D40-B684-33C36391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A00-922F-451B-8363-20B47AF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6AA-07B2-44ED-BB92-4304E680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35C-4FD1-4C69-994A-5C095871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268-3DE4-4D9F-B347-7C54302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B51-77D8-46E6-AEE9-2F05DB9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33E-A95E-4F66-90C5-63EAA27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A5A-E80D-4590-BD99-2D1FE361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88A-3BF7-479E-998C-C38E44A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AEA-72EE-4F3D-857C-3125D34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029-AFEA-425E-B137-74570EC7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6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productos alimenticios en una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286160" cy="262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438640" cy="3067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3886200" cy="244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495680" y="3200400"/>
            <a:ext cx="4213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52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2771640"/>
            <a:ext cx="666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63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8428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5bkC8Ul0zww&amp;feature=list_related&amp;playnext=1&amp;list=MLGxdCwVVULXeo5BtOxBQmZRIzxG42Yx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hace la compra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refieres los supermercados o los mercados tradicionales al aire libre? 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7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82840" cy="1919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2174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idas-</a:t>
            </a: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(Me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comes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omes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tu comida más grande de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5029200"/>
            <a:ext cx="183996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90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piensas? ¿Qué crees?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 en Esp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piensas que una persona come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español come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los españoles comen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rees que comen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comen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su comida más grande del día? ¿Qué pien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133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omidas en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timing of meals in Spain is quite different from the rest of Europe and US and my surprise you. Breakfast is usually served between 9 and 11 and it is commonly quick and simple.  A midmorning snack is common between 11 and 12.  Lunch is the main meal.  It starts around  around 14.00 and lasts until 16.00 or even later if it is a family gathering or special occasion.  (This usually is very late for most foreigners.) Dinner is also generally taken late, from 9.00 onwards.  Most restaurants open at 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or even 9.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  Service is usually included in the bill so tips are not required; however, if the service and the food are good you may leave an additional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ar una canci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ó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ATA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ndero sin son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te metes en las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co el pito y el 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u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oril y casc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repet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57880" y="1459080"/>
            <a:ext cx="181440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80280" y="4011480"/>
            <a:ext cx="2367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arej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emparejar las palabras a los dib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rsona con 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s correctos recibe un prem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ner los dibujos con la cantidad correcta en tu h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ª Juego de la pelota…Pass the ball to others…if the timer goes off while you are speaking, you are out!  Last person left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REA PARA EL VIERNES EL 10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Lección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do el paqu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Memorizar la comida (usa las tarjetas verdes para m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ueba la p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óxima cl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Quiz on these foods next class…see p.24 en you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-Libro Azul Ab Initio (Blue Abinitio Boo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p. 151, 152, 153…Read dialog and answer comprehen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l 10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alg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licitar un servicio en un restaur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ción de Navid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mar Pruebita sobre la comida-vocabulario p.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o…4ª Juego de la pelota…Pass the ball to others…if the timer goes off while you are speaking, you are out!  Last person left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1-repasar rápid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 Obser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ner el diálogo en ord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ver las fotos de Andaluc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escribir debajo de cada foto una(s) palabra(s) que corresponde a la f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 27 8ª  completa el diá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b esc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áctica de Hablar p.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-Usa tus tarjetas…escoge los productos que quieres en tu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-Decide lo que quieres comprar. Haz la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. 28 10ª ¿Con qué países asocias estos product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fé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rtil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íjole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riz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anj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qu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ción ¨Hoy es lunes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ira las comidas típicas de Méxic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¿Qué signific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hambre.-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mos a Comer-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a vamos a ca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 un Resta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. 29,30,31 or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evo Vocabulario de p. 155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Libro Az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lumnas-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e el ing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és de las palabras que sabes en la segunda colum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equea tus respuestas en la página 1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obla la primera columna y termina para la tar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A PARA MARTES el 14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árate para un oral interactiva sobre la comida en dos 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Hacer en el Libro Azul Ab Initio: pp 154-160, 164-1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-Memorizar el vocabulario en p. 155-terminar 4 columnas. (ver hoja) Prueba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 Leer pp 32,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ercise 1 A, B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Hay que escribir un diálogo entre un mesero y un cliente. Hay que usar las frases en las hojas sobre el restaurante (restaurant handouts) y las frases en tu libro.  Tienes que escribir un diálogo por lo menos de 150 palabras . Hay que incluír unos problemas que tiene el cliente (hay que quejarse sobre algo) También hay que incluír vocabulario de p.24 en el libro y p. 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-Hacer la hoja (categori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14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s práctica 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alg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licitar un servicio en un resta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tar una cancio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uebita sobre el vocab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daluc</a:t>
            </a:r>
            <a:r>
              <a:rPr b="0" lang="es-ES" sz="4400" spc="-1" strike="noStrike">
                <a:solidFill>
                  <a:srgbClr val="000000"/>
                </a:solidFill>
                <a:latin typeface="comic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57680" cy="3009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0" y="3733920"/>
            <a:ext cx="4229280" cy="281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91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962520" y="0"/>
            <a:ext cx="2084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álogo-Resta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tegor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t the strips in order lo que diría un camare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que diría un c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jas de un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culpas de un camar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A PARA VIERNES el 17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árate para un oral interactiva sobre la comida la próxima cl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-repasar el vocabulario de la comida y las frases para un restau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-Hacer las Pruebas 1 y 2-todos (past papers 1 and 2-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-Memorizar la lista de vocabulario-Comida para una prueba la próxim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-Corregir la prueba 2 que acabo de entregarte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17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tar una cancion navi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r oral inter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 Ropa-HW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ltura Navid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al Individu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REA SOBRE LA VAC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Past papers con com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pp161-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6840" y="304920"/>
            <a:ext cx="4348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915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1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3809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256200" cy="327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374328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41:06Z</dcterms:created>
  <dc:creator>wanda.snowfrost</dc:creator>
  <dc:description/>
  <dc:language>en-US</dc:language>
  <cp:lastModifiedBy>wanda.snowfrost</cp:lastModifiedBy>
  <dcterms:modified xsi:type="dcterms:W3CDTF">2011-02-08T05:06:49Z</dcterms:modified>
  <cp:revision>13</cp:revision>
  <dc:subject/>
  <dc:title>Andalucia</dc:title>
</cp:coreProperties>
</file>